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A2F6-E4B5-4282-819F-761385DBA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5017-7EAA-44E7-9BFE-E924C423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9B7D-DD40-40CE-8F87-A429B9F4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13A7-5BAD-4372-AEC5-D991D21C8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42B1-B65C-44C2-B544-EC463ADE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24A3-9C0B-4B21-9B49-CA3544D6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F9FD-B6C9-4419-B3F6-3C548CC6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9E60-C7DB-45D2-A8E8-28EECD45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4E5E-8B19-4D99-81E5-5CD10749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6A5D-8DAA-4CB8-B24C-873DE7A1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C489-9DE3-4EE1-BD83-0F1DCD29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5A8B-2224-4154-B9DF-6495C80D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D47B-C4AC-44A5-A8F3-C798739FC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35280" y="4437000"/>
            <a:ext cx="5508720" cy="144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0" spc="-1" strike="noStrike">
                <a:solidFill>
                  <a:srgbClr val="ffffff"/>
                </a:solidFill>
                <a:latin typeface="Arial"/>
              </a:rPr>
              <a:t>Gambling</a:t>
            </a:r>
            <a:r>
              <a:rPr b="0" lang="en-NZ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19200" y="5921280"/>
            <a:ext cx="4024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By Elliot C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47640" y="17640"/>
            <a:ext cx="519912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4T03:59:23Z</dcterms:created>
  <dc:creator>Sami&amp;Ell</dc:creator>
  <dc:description/>
  <dc:language>en-US</dc:language>
  <cp:lastModifiedBy>Sami&amp;Ell</cp:lastModifiedBy>
  <dcterms:modified xsi:type="dcterms:W3CDTF">2008-07-24T04:33:22Z</dcterms:modified>
  <cp:revision>2</cp:revision>
  <dc:subject/>
  <dc:title>Gambling </dc:title>
</cp:coreProperties>
</file>